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286D2-188A-43C3-89A4-E32F609DD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37035-3485-45F3-8AA9-C870CF6FA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DE8B9-789F-4780-AAA8-D43D5E042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3A51F2-859B-4084-AB62-68B5AEE90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DCF1E-99D8-4110-952D-67EBBB8A2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D4707-3C68-4F26-92AD-B1E844F5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6C6B5-C299-408A-B71A-E5F06CCFB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36CA5-0407-453B-A047-95E230F53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DBAD8-2F42-4F39-954F-990D08B45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27AE4-B866-46DC-B19D-625892F02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7A457-B267-43B9-AA4F-DD0FEE157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5231F-35B9-4A34-A237-4EEB6B904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108A-2851-49D6-AE77-2E80DEBAEE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1"/>
          <p:cNvSpPr/>
          <p:nvPr/>
        </p:nvSpPr>
        <p:spPr>
          <a:xfrm>
            <a:off x="380880" y="228600"/>
            <a:ext cx="83822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n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re a newscaster.  Start the newscast by greeting your audience, telling the name of your station, where the station is located (must be a city in a German speaking country)  and your name.  You must also the day and date (this can be any date of your choosing). Your top story is that an animal is missing or lost.  Show the scanned picture and description of the animal.  Then introduce the owner of the animal and start your interview (with your partn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f you must say hello.  Ask for the owner’s name and where s/he lives.  Ask him/her what animal they are looking for, the name of the pet, what s/he looks like, the temperament of the pet, age of the pet, and what the pet likes to do.  One of you needs to mention a contact number and/or email address where you can be reached if the pet is found.  All of this information needs to be supplied in German (German numbers and let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o supply a weather forecast for a city in a German speaking country.  The weather needs to be typical for this city at this time of the year.  You need to give a 3 day forecast with pictures with temperature and weather conditions.  (The temperature (</a:t>
            </a:r>
            <a:r>
              <a:rPr b="0" i="1" lang="en-US" sz="1800" spc="-1" strike="noStrike">
                <a:solidFill>
                  <a:srgbClr val="000000"/>
                </a:solidFill>
                <a:latin typeface="Arial"/>
              </a:rPr>
              <a:t>Temperatur (f) </a:t>
            </a:r>
            <a:r>
              <a:rPr b="0" lang="en-US" sz="1800" spc="-1" strike="noStrike">
                <a:solidFill>
                  <a:srgbClr val="000000"/>
                </a:solidFill>
                <a:latin typeface="Arial"/>
              </a:rPr>
              <a:t>in German is in Celsius (C</a:t>
            </a:r>
            <a:r>
              <a:rPr b="0" i="1" lang="en-US" sz="1800" spc="-1" strike="noStrike">
                <a:solidFill>
                  <a:srgbClr val="000000"/>
                </a:solidFill>
                <a:latin typeface="Arial"/>
              </a:rPr>
              <a:t>elciu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o thank your audience for watching (Danke fürs Zuschauen) and say goodby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1"/>
          <p:cNvSpPr/>
          <p:nvPr/>
        </p:nvSpPr>
        <p:spPr>
          <a:xfrm>
            <a:off x="0" y="0"/>
            <a:ext cx="9144000" cy="69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ting</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 of your station</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the station is located (must be a city in a German speaking country)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name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y and date (this can be any date of your choosing).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story </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nimal is missing or los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ture and description of the animal. </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the owner (Besitzer/Besitzerin) of the animal </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iew</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Goodbye and polite words.  </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s name </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 s/he lives.  </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e animal they are looking for</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name of the animal </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scription</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mperament or adjective describing animal</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the pet likes to do.  </a:t>
            </a:r>
            <a:endParaRPr b="0" lang="en-US" sz="16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tact number and/or email address if the animal is found.</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eather forecast for the city in a German speaking country.</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 day forecast </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ictures </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 </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ather conditions.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 you for watching (Danke fürs Zuschauen)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odby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1"/>
          <p:cNvSpPr/>
          <p:nvPr/>
        </p:nvSpPr>
        <p:spPr>
          <a:xfrm>
            <a:off x="0" y="0"/>
            <a:ext cx="9144000" cy="1666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ments:</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ting</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of your station</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the station is located (must be a city in a German speaking country) </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ame </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and date (this can be any date of your choosing). </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story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nimal is missing or lost.</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nned picture and description of the animal.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the owner (Besitzer/Besitzerin) of the animal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view</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lo </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wner’s name </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s/he lives.  </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animal they are looking for</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name of the animal </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scription</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mperament</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he pet likes to do.  </a:t>
            </a:r>
            <a:endParaRPr b="0" lang="en-US" sz="32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ntact number and/or email address if the animal is found.</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eather forecast for the city in a German speaking country.</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day forecast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ictures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erature </a:t>
            </a:r>
            <a:endParaRPr b="0" lang="en-US" sz="3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ather conditions. </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watching (Danke fürs Zuschauen) </a:t>
            </a:r>
            <a:endParaRPr b="0"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b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152280" y="-76320"/>
            <a:ext cx="9296640" cy="7043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lo </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wner’s name </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s/he lives.  </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animal they are looking for</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ame of the animal </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scription</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ment</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he pet likes to do.  </a:t>
            </a:r>
            <a:endParaRPr b="0" lang="en-US" sz="2400" spc="-1" strike="noStrike">
              <a:solidFill>
                <a:srgbClr val="000000"/>
              </a:solidFill>
              <a:latin typeface="Arial"/>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act number and/or email address if the animal is found.</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ather forecast for the city in a German speaking country.</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day forecast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ictures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a:t>
            </a:r>
            <a:endParaRPr b="0" lang="en-US" sz="2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her condition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 for watching (Danke fürs Zuschauen)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by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2T19:47:31Z</dcterms:created>
  <dc:creator>ahart</dc:creator>
  <dc:description/>
  <dc:language>en-US</dc:language>
  <cp:lastModifiedBy>tmsadmin</cp:lastModifiedBy>
  <dcterms:modified xsi:type="dcterms:W3CDTF">2013-10-25T15:49:57Z</dcterms:modified>
  <cp:revision>16</cp:revision>
  <dc:subject/>
  <dc:title>Slide 1</dc:title>
</cp:coreProperties>
</file>